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798B-1CF6-4113-B8F3-05520EE4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B26D-B3EC-42B1-A52C-9D91B67C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18D9-3C83-47F5-A063-1449E1B1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F8E8-7470-4082-9756-1EF410DE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90D-934D-4EEC-ACA6-993F27FC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6481-896A-4EE0-8B9E-6D9C250F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0C2D-F840-4ABE-89B6-D14F8F0C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84F-A178-4505-B81A-42BFA88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7D61-45F6-4654-AA35-92A7D1A7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41ED-A4A3-419A-9EEC-697F013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B3C9-4640-491D-A044-C4C218B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2390-1543-49E8-9214-C2F4CC4B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D64-84F5-494A-920E-3DB4089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9D1F-4545-4C18-AAD8-6D9D8AB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6AB1-7717-440F-B1BF-FF09A376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3F7-BCB1-4E47-9EC9-03D1D8A6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C868-44CC-47F8-9A89-60684BE7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3356-6D25-48C4-A038-1885756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62D1-F48B-4409-AA2B-C063CBC9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7061-A396-442B-8AA4-8F51BFD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D635-E7B5-4D7E-B3BB-217C5408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BEC5-27C0-49E6-8C83-177D864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480B-48F1-4A5B-B933-1298CBE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7ACC-148D-4B61-95D3-9C95F8A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1C60-1762-4A8E-AF4A-C14822727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7B7A-153E-4E85-B782-3EE90BB77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eachpe.com/images/exercise_physiology/oxygen_debt.jpg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Arial"/>
              </a:rPr>
              <a:t>Delivery of Oxygen</a:t>
            </a:r>
            <a:br>
              <a:rPr sz="4600"/>
            </a:br>
            <a:r>
              <a:rPr b="0" lang="en-AU" sz="3800" spc="-1" strike="noStrike">
                <a:solidFill>
                  <a:srgbClr val="ffffff"/>
                </a:solidFill>
                <a:latin typeface="Arial"/>
              </a:rPr>
              <a:t>Chapter 5 in Text p. 117 (Malpeli et al, 2008)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eficit and Debt During Light-Moderate and Heavy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9176" t="28125" r="7500" b="29853"/>
          <a:stretch/>
        </p:blipFill>
        <p:spPr>
          <a:xfrm>
            <a:off x="0" y="1703520"/>
            <a:ext cx="9144000" cy="38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is EPO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other term used for the recovery oxygen consumption is Excess Post-exercise Oxygen Consumption EP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fference between Oxygen Debt and Oxygen Defic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ygen defi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s the process of getting into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xygen 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w much oxygen needs to be re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 Yoursel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pe.com/cloze/oxygen_debt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rdle, William D., Frank I. Katch, and Victor L. Katch.  2000.  Essentials of Exercise Physiolog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. Image Collection.  Lippincott Williams &amp; Wilk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lpeli, R. , Horton, M., Davey, G., &amp; Telford, A. (2008). Nelson Physical Education VCE Units 3 &amp; 4 (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ed). South Melbourne; Cen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teachpe.com/images/exercise_physiology/oxygen_debt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essed on October 18.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xygen Uptake during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xercise rapidly attains steady-rate and small oxygen defic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to heavy takes longer to reach steady-rate &amp; oxygen deficit considerably lar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666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iod during exercise where th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MUSCLE is BELOW that required to produ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ATP aerob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tart of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s during aerobic exercise where intensity exceeds 85%, Eg: riding up a hill or in a big gear, surging away from an opponent. The lactic acid system will produc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 A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d (aerobic still dom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size of the oxygen deficit is determin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nsity of the activity. Consider light vs hea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TEADY STA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 during exercise when oxygen supply to musc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s oxygen requirements (to produce AT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robicall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ed by a plateau in hr, Q, SV and V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ant energy system: aero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2 supply = O2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urance athletes with a higher LIP will be able to steady state at a higher intensity, delaying use of lactic acid system and accum. of H+, ADP +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8064720" cy="43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eart Rate and Inten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57200" y="2355840"/>
            <a:ext cx="82296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ther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sufficient oxy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livered to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ken up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scle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aerobic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ystems will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bulk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51200" y="1765440"/>
            <a:ext cx="40356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XYGEN DEBT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exercise consumed after exercise (during recovery) that is over the level consumed during 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the O2 Debt is dependant on the size of the O2 Deficit and the type / length of recover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following occurs during EPO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ynthesise ATP and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yntheisie lactate to glycogen (cori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xidise lac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tore oxygen to my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 Fig. 5.7 on p.1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Heart Rate and Oxygen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66400"/>
            <a:ext cx="42609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en exercis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ur heart rate increases to meet the oxygen demands for the working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lationship between HR and oxygen consumption is lin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ed athletes are able to utilise their oxygen uptake more efficiently than non trained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ed athletes VO2 will be lower at submax intensity and higher at max inten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fig 5.3 p.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age29"/>
          <p:cNvPicPr/>
          <p:nvPr/>
        </p:nvPicPr>
        <p:blipFill>
          <a:blip r:embed="rId1"/>
          <a:stretch/>
        </p:blipFill>
        <p:spPr>
          <a:xfrm>
            <a:off x="4651200" y="1947960"/>
            <a:ext cx="40356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5950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achpe.com/images/exercise_physiology/oxygen_deb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9:58:20Z</dcterms:created>
  <dc:creator>Russell Simpson</dc:creator>
  <dc:description/>
  <dc:language>en-US</dc:language>
  <cp:lastModifiedBy>Russell Simpson</cp:lastModifiedBy>
  <dcterms:modified xsi:type="dcterms:W3CDTF">2010-10-20T09:14:50Z</dcterms:modified>
  <cp:revision>4</cp:revision>
  <dc:subject/>
  <dc:title>Delivery of Oxygen </dc:title>
</cp:coreProperties>
</file>